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6FC-E68A-4E28-9BAF-80EB7837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D97-8811-4088-A9CD-87880A0E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903-8A66-409D-A8B4-72D58064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54E-839B-4C0D-AF57-976A70D1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A01-C568-4602-83B8-2D9562F0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7C0-22AA-4E00-A313-79E5945F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319-6FCA-499D-ACE1-F5AFE9D4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5FF-609F-4D24-AFBD-8962486D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F84-9832-49B1-BA77-C5E3FC5D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5F6-5B65-40F2-984A-484C9FCB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C4C-0BD5-476C-8FC2-DCE5D037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C5D-23BB-4127-BF8E-D733CE6B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194C-8032-4115-B1EF-24010A1C1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 and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rancisco Viramo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with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a lot of different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different sha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different sizes; some are big, some are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gate%2002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in volcan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in 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under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under the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la-ecuador-volcano01"/>
          <p:cNvPicPr/>
          <p:nvPr/>
        </p:nvPicPr>
        <p:blipFill>
          <a:blip r:embed="rId1"/>
          <a:stretch/>
        </p:blipFill>
        <p:spPr>
          <a:xfrm>
            <a:off x="5029200" y="160020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flathead-river-rocks-denise--hoff"/>
          <p:cNvPicPr/>
          <p:nvPr/>
        </p:nvPicPr>
        <p:blipFill>
          <a:blip r:embed="rId2"/>
          <a:stretch/>
        </p:blipFill>
        <p:spPr>
          <a:xfrm>
            <a:off x="5214960" y="3938760"/>
            <a:ext cx="2903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are made of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from one mi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of two or more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lackGalaxy"/>
          <p:cNvPicPr/>
          <p:nvPr/>
        </p:nvPicPr>
        <p:blipFill>
          <a:blip r:embed="rId1"/>
          <a:stretch/>
        </p:blipFill>
        <p:spPr>
          <a:xfrm>
            <a:off x="5562720" y="4038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ock-photo-semi-precious-gemstones-blue-lace-agate-aquamarine-apatite-fushite-beryl-amazonite-angelite-4046458"/>
          <p:cNvPicPr/>
          <p:nvPr/>
        </p:nvPicPr>
        <p:blipFill>
          <a:blip r:embed="rId2"/>
          <a:stretch/>
        </p:blipFill>
        <p:spPr>
          <a:xfrm>
            <a:off x="5486400" y="1371600"/>
            <a:ext cx="24382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nimals-and-plants31701s"/>
          <p:cNvPicPr/>
          <p:nvPr/>
        </p:nvPicPr>
        <p:blipFill>
          <a:blip r:embed="rId1"/>
          <a:stretch/>
        </p:blipFill>
        <p:spPr>
          <a:xfrm>
            <a:off x="1828800" y="304920"/>
            <a:ext cx="552456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290040" y="46483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ake energy from the sun and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ke their own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Nd9GcS7FOyzw-HP0CPeMgSsfKG9oUR0BlQuhRI_W9FRHO0zEHdHQMQvPQ"/>
          <p:cNvPicPr/>
          <p:nvPr/>
        </p:nvPicPr>
        <p:blipFill>
          <a:blip r:embed="rId1"/>
          <a:stretch/>
        </p:blipFill>
        <p:spPr>
          <a:xfrm>
            <a:off x="5153040" y="193500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grass"/>
          <p:cNvPicPr/>
          <p:nvPr/>
        </p:nvPicPr>
        <p:blipFill>
          <a:blip r:embed="rId2"/>
          <a:stretch/>
        </p:blipFill>
        <p:spPr>
          <a:xfrm>
            <a:off x="4889520" y="3938760"/>
            <a:ext cx="3554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nimals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, horses, turtles, and birds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orse_578_600x450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t eaters are carniv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ns, T-Rex, cats, and dogs are carniv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ion-Wallpapers-For-Desktop-3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mposers eat dead plants an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ms are decompo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250px-Regenwurm1"/>
          <p:cNvPicPr/>
          <p:nvPr/>
        </p:nvPicPr>
        <p:blipFill>
          <a:blip r:embed="rId1"/>
          <a:stretch/>
        </p:blipFill>
        <p:spPr>
          <a:xfrm>
            <a:off x="5105520" y="1676520"/>
            <a:ext cx="317484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4:55:29Z</dcterms:created>
  <dc:creator>aedwards</dc:creator>
  <dc:description/>
  <dc:language>en-US</dc:language>
  <cp:lastModifiedBy>Jeanette</cp:lastModifiedBy>
  <dcterms:modified xsi:type="dcterms:W3CDTF">2012-12-13T22:38:30Z</dcterms:modified>
  <cp:revision>2</cp:revision>
  <dc:subject/>
  <dc:title>Rocks and Minerals</dc:title>
</cp:coreProperties>
</file>